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B4-1549-4768-94C3-54360CE1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D2C-ACDA-4E21-AE90-96C204C0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4B3-78B4-4980-AB03-618AA892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D29-9BCA-49DB-8ADE-535E5152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5EC-F907-46E0-8566-FB7C046A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800D-DB10-4079-831A-DF9E451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9904-6F4F-4733-8674-B693CAA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B9CC-6901-4302-A99E-0257E06F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B17-9F4F-4DB7-856E-E6D7D195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DA64-D804-4015-B99D-BE1F049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C823-5DAA-4283-931C-FFF2535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C7A-9751-491C-A041-74450F8A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9393-4788-42D5-9EDE-466B2C5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FF2-44A2-4BFD-82A0-00CC8B6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EDAA-552E-40E3-B91D-2BDB146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F04-9041-4969-A076-0C4E425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D1E1-7440-4CAA-82FD-0A76AF7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D5D-A3A0-4328-A636-D99939A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D49-28B3-4507-85A7-4CAD7F0B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126-597B-4091-AEDC-4D9C318D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871-F892-4ECB-80F6-4A894E96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B16-1CC1-4975-A9AA-F9F1E46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9D7-F40F-48C4-8410-04F30AB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68C-B78B-4CE5-B5F2-0CE9A8E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517-DFA5-4B76-A9C7-9B3F5FE48B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8E2-4F53-4CEC-ACFF-64C4E18F63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ИЕРНО РАЗВИТ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ІV А КЛАС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Посещение в “КАТЕКС” 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ужеството "Катекс" e създадено през 1889 г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изводството е съсредоточено върху вълнен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ъкани, както и смеси от вълна с вискоз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н и кашмир. По размер на пазарната с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питализация е лидер сред компании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 текстилния сектор, търгувани 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ългарската фондова борса. Обемът 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дишното му производство надхвърл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5 млн. метра готови тъкани. Основните 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лиенти са компании от Западна Европ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Щ и Канада, както и такива от Русия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точна Европа и Близкият изто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1673280" cy="390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2095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879640" cy="3840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041640" cy="4055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780000" y="717480"/>
            <a:ext cx="192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836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юбезните ни домакини 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казаха  за история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стоящето на фабрик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ведоха ни из халета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881440" cy="28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72400" y="1052640"/>
            <a:ext cx="49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дяхме класьорите с мос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огромните машини, които преработв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ълната от суров материал в пре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плат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151440" cy="4200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2987640" cy="3983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77920" y="1125360"/>
            <a:ext cx="42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сенаторите ни показаха катало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компютърни програми, от кои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бихме представа за плато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365280" cy="448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041640" cy="4056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27640" y="8618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стествен интерес предизв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естоят ни в моделиерн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ъдето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мислят десе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37080" cy="484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313440" cy="4416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11640" y="1052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малки лупи се броят нишк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 вертикали и хоризон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4:50:10Z</dcterms:created>
  <dc:creator>Home</dc:creator>
  <dc:description/>
  <dc:language>en-US</dc:language>
  <cp:lastModifiedBy>Home</cp:lastModifiedBy>
  <dcterms:modified xsi:type="dcterms:W3CDTF">2013-05-20T05:33:20Z</dcterms:modified>
  <cp:revision>2</cp:revision>
  <dc:subject/>
  <dc:title>КАРИЕРНО РАЗВИТИЕ</dc:title>
</cp:coreProperties>
</file>